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F67-9F06-46E4-8AA9-F7350C20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546-4F1A-4340-8985-3141365C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7D9-CF5F-4D9E-8D22-19CA88EA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FA1-B39B-4FF7-8979-1495BFCF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53B-B27A-4BB6-A230-843CEDB3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AD1-C393-4F63-B955-43B6EA70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324-DBDB-4DF9-8F0B-68ABD56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10B-44DB-415E-8CFD-0A12B14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6F7-DC3D-44BE-9808-FA4A8384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5FE-0675-40AC-B172-0E63FE81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0E3-8CE1-4AD5-A24F-D5310BDE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E90-0D21-46CC-B1F3-F8109C16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7A22-FC13-4DD9-B715-8A68DC5B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E3F9-103D-4242-B954-A9BC970B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F497-64EC-405F-BB54-1AA0EB25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0FDE-8576-428D-98BD-99FA49AF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B630-9273-49B1-8269-1E1AA023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EEED-E2FE-4469-92A6-269EA04A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D559-0C7F-4F9B-82C5-D5B3060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5B23-A3BB-47ED-BDE6-78961018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B256-3FCC-4126-AC23-8A0E311E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5072-17EB-4A55-94DE-B48C54E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D6E3-577B-4854-86DD-9ADB583F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1326-1EC7-45B1-9C0C-15AB6B80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476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EE0-C689-4805-999C-BF6BE69E6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B4F8-C179-4F15-B3E6-C56ED24F2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 O PROPÓSITO DESSA METODOLOG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uzir o pensamento do educando, dentro da dimensão da verdade, visando potencializar o compromisso com sua evoluç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ertar recursos para que  o espírito possa  aplicar esse conhecimento, visando atender suas necessidades evoluti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forma o conhecimento em um instrumento prático, por aplica-lo de forma clara(sem intelectualismos), simples (s/ ritualismos) e contextualizada (focado no dia a di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 FOCO DA EVANGELIZAÇÃO DE ESPÍRITOS ESTÁ 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der as necessidades do espír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rtar estímulos visando auxiliar o espírito na sua transformação intelecto-mo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EDAGOGIA DO AMOR TEM SEU REFERENCIAL FOCAD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princípios da moral cristã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conhecimentos gerais da doutrina espíri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ILIDADE DO CONHECIMEN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s conhecimentos, por elucidarem sobre a origem e  a destinação do ser, possibilitam esclarec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m somos nó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que estamos ass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onde eu v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onde eu v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 é a finalidade d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 é o objetivo dessa minha existê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S REFLEXÕES TERÃO COMO META AUXILIAR O ESPÍRITO 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estir-se das ilusões e falsas necess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ar a consciência da realid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VANGELIZAÇÃO DE ESPÍRI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32508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uma metodologia que oferece condições de aplicar o conhecimento espírita, para atender as demandas  existente em cada ciclo vital (fase da vida) do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 como  meta o aprimoramento do amor, em seu tríplice aspecto (à deus, ao próximo e a si mesm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ilia na construção do amor, respeitando o ritmo evolutivo do educ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APRENDIZAGEM OCORRERÁ FOCANDO EM QUATRO ASPECT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zendo. (Como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ência x atenção pass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brindo (como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indo o saber x recebendo pro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alizando compreensão (como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ulo a reflexão x entendi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gnificando (como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ualizando x teoriz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IDERAÇÕES SOBRE A EVANGELIZAÇÃO DE ESPÍRIT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ama a prática do bem, como instrumento de desenvolvimento do am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ende a  verdade como instrumento de desenvolvimento da compreensão (diferente de simples entendiment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a em um estilo de educação pautada na vivência, observação e reflexão visando remover as programações doent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xilia o espírito a compreender as possibilidades evolutivas de seu ambiente, com as condições  apresentadas por suas competências existentes, objetivando construir o   crescimento interior que o espírito necessi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Ã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vangelização de Espíritos é uma Metodologia que aposta na prática da vivência e reflexão, como principal campo de trabalho, para efetuar à aprendiz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de tais recursos para conscientizar o educando das suas principais necessidades como espírito (processo singula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rta instrumentos elucidativos para valorizar as possibilidades evolutivas, que a ambientação reencarnatória of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067280" y="115920"/>
            <a:ext cx="4932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EVANGELIZ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6049800"/>
            <a:ext cx="6400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ESPÍR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79280" y="73080"/>
            <a:ext cx="8964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e nos ama, observa e prote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NGELIZADOR DE ESPÍRI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âmica da reencarnação (viver+descobrir+significar) = renovação na forma de encarar e viver a existê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vangelização emprega a dinâmica existente na vida, para todos os trabal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FOCO DO EDUCADOR DE ESPIRITOS DEVE SE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o ao conteúdo a ser dado (atenda as necessidad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o a forma de apresentar esse conteúdo (sensibilizaçã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 a forma em que convive com seu educan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 EDUCAÇÃO DO ESPÍRITO É IMPORTANTE COMPREEN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a estrutura psicológica (sombras e luz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lação com o meio em que vive o educando(como é e como ocorre a relação do educando com o ambien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a capacidade de aprender (facilitadores e dificultor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O POTENCIALIZAR A APRENDIZAGE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tando o: moralismo/preconceito/julgamento (sofrimento não leva a aprendizage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izando as possibilidades ao invés dos problemas (a vontade é mobilizada pelo prazer/senti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ar em conta a capacidade do educando em vivenciá-las (respeito ao ritm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 IMPORTANTE AO EDUCAD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ter uma flexibilidade no processo metodológico, para apresentar maiores sucessos de atingir seu educ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 renovação é facilitada pela junção entre dados vivenciais e técnicas aplicativ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403280" y="260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3-Foto 165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1403280" y="260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4 -Foto 128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403280" y="260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5 -Foto 15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403280" y="260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6 - Foto 104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403280" y="260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7- Foto 149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403280" y="260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8 -Foto 26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403280" y="260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9 -Ovellha Braço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1403280" y="260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10Foto:1 0u 128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6193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268360" y="189000"/>
            <a:ext cx="504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403280" y="260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11 -Foto 32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6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1403280" y="260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12 -Foto 2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2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1403280" y="260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R. Luz Final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360" y="4870440"/>
            <a:ext cx="8820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z e Luz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ipe Raio de Luz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05264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360" y="4870440"/>
            <a:ext cx="8820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z e Luz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ipe Raio de Luz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882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-36360" y="4870440"/>
            <a:ext cx="8820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z e Luz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ipe Raio de Luz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403280" y="580392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ccff">
                      <a:alpha val="70000"/>
                    </a:srgbClr>
                  </a:outerShdw>
                </a:effectLst>
                <a:latin typeface="Arial Black"/>
              </a:rPr>
              <a:t>Jesus Sananda governador planetári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99ccf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8461440" y="6524640"/>
            <a:ext cx="431640" cy="360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652464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88920" y="117360"/>
            <a:ext cx="894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us Sananda Orientad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41560"/>
            <a:ext cx="9144000" cy="6032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428472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4105080" cy="4681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50920" y="6091200"/>
            <a:ext cx="3990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hann Heiinrich Pestalozzi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8520" y="333360"/>
            <a:ext cx="8886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ordenadores Espirituais do Curs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00000" y="44280"/>
            <a:ext cx="7772400" cy="10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EVANGELIZAÇÃ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35200" y="5877000"/>
            <a:ext cx="6400800" cy="90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 ESPÍR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-108000" y="0"/>
            <a:ext cx="9433080" cy="134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341360"/>
            <a:ext cx="9252000" cy="551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timologi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at.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dùco,as,ávi,átum,á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'criar (uma criança); nutrir; amamentar, cuidar, educar, instruir, ensinar'; ve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duc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  -  dar a (alguém) todos os cuidados necessários para potencializar seu desenvolvim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UCAR: DESENVOLVIMENTO DO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ÃO: EXIGI-SE UMA FORMA DE ATUAÇÃO (COMO FAZ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UCAÇÃO ESPÍRITA: AÇÃO QUE POTENCIALIZA O DESENVOLVIMENTO ESPIRI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BRE A EVANGELIZAÇÃO DE ESPÍRI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evangelização de espíritos é um método (forma de fazer) voltado a aplicação do conhecimento espírita, para agilizar o desenvolvimento do ser espiritu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i criado por Eurípedes, e posteriormente trabalhado por Pestalozzi, juntamente com uma equipe de espíritos, que na pátria espiritual, tem suas atividades centralizadas no processo educ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2:06:01Z</dcterms:created>
  <dc:creator>Cleber.Bento</dc:creator>
  <dc:description/>
  <dc:language>en-US</dc:language>
  <cp:lastModifiedBy>Eros.Ferreira</cp:lastModifiedBy>
  <dcterms:modified xsi:type="dcterms:W3CDTF">2008-03-28T13:28:00Z</dcterms:modified>
  <cp:revision>165</cp:revision>
  <dc:subject/>
  <dc:title>Slide 1</dc:title>
</cp:coreProperties>
</file>